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149-7545-44FC-A0A7-4C2A0014BAD9}" type="datetime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07/28/26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move the slide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notes format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836D-41A8-4B3F-B614-C9034EB5EB09}" type="slidenum">
              <a:rPr b="1" i="1" lang="en-US" sz="12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D625-254B-4BB6-9F6B-F87198B09CD2}" type="slidenum"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sng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0D8A-1CCB-45E7-A87B-FD62C807A261}" type="slidenum">
              <a:rPr b="1" i="1" lang="en-US" sz="1200" spc="-1" strike="sng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CAD-8B44-40FF-963B-EB61AF13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5A6F-49EA-428F-85A8-9F835DA0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DEFC-8979-4EB2-B338-448FEC12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77A-5848-4AC8-B5AB-48723D21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8B2-787A-441E-A832-41EEAAEA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BDE9-2754-4E1B-9383-E9091B70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8FF5-C99F-4533-890F-42B3FD08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B5B4-14BD-4416-9F53-037EABB5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9BAA-2076-44D0-A3FE-8BDC0480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136A-632D-40BD-9F56-CCA73310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396D-4068-4BEB-BC5D-7B06F73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1BD5-A293-4A4B-8F87-89D9616F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044D-1F52-4D79-A9C7-016987C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27D-2348-41E0-88F7-8D680380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C456-9C80-4611-A0A7-72905BEE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79BE-CD14-42A8-B8E4-156D6C87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B5C-9EF6-4191-8AD6-D3F17D65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C56-9B73-4553-973A-A56EABDB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96D-081D-42A8-AFE9-F21153EE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511-1248-4A49-A053-F1F93751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11E-E818-40BC-89ED-0705561F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488-4903-45FF-B798-00126B78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FF57-C605-4891-9F84-24FD1EB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16D5-0858-4926-82F8-9C05C18A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2" name="矩形 8"/>
          <p:cNvGrpSpPr/>
          <p:nvPr/>
        </p:nvGrpSpPr>
        <p:grpSpPr>
          <a:xfrm>
            <a:off x="689040" y="3193920"/>
            <a:ext cx="7772040" cy="19080"/>
            <a:chOff x="689040" y="3193920"/>
            <a:chExt cx="7772040" cy="19080"/>
          </a:xfrm>
        </p:grpSpPr>
        <p:pic>
          <p:nvPicPr>
            <p:cNvPr id="3" name="图片模式1" descr=""/>
            <p:cNvPicPr/>
            <p:nvPr/>
          </p:nvPicPr>
          <p:blipFill>
            <a:blip r:embed="rId3"/>
            <a:stretch/>
          </p:blipFill>
          <p:spPr>
            <a:xfrm>
              <a:off x="691920" y="3193920"/>
              <a:ext cx="77691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文本框1"/>
            <p:cNvSpPr/>
            <p:nvPr/>
          </p:nvSpPr>
          <p:spPr>
            <a:xfrm>
              <a:off x="689040" y="3196800"/>
              <a:ext cx="7769520" cy="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9520" bIns="-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f2f2f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2f2f2f"/>
              </a:buClr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2f2f2f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8C98-1191-4C78-A79B-E899EA5105EB}" type="slidenum">
              <a:rPr b="1" i="1" lang="en-US" sz="11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040000">
                  <a:alpha val="38039"/>
                </a:srgbClr>
              </a:gs>
              <a:gs pos="100000">
                <a:srgbClr val="04000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48" name="矩形 8"/>
          <p:cNvGrpSpPr/>
          <p:nvPr/>
        </p:nvGrpSpPr>
        <p:grpSpPr>
          <a:xfrm>
            <a:off x="457200" y="1414440"/>
            <a:ext cx="8229600" cy="12600"/>
            <a:chOff x="457200" y="1414440"/>
            <a:chExt cx="8229600" cy="12600"/>
          </a:xfrm>
        </p:grpSpPr>
        <p:pic>
          <p:nvPicPr>
            <p:cNvPr id="49" name="图片模式1" descr=""/>
            <p:cNvPicPr/>
            <p:nvPr/>
          </p:nvPicPr>
          <p:blipFill>
            <a:blip r:embed="rId3"/>
            <a:stretch/>
          </p:blipFill>
          <p:spPr>
            <a:xfrm>
              <a:off x="457200" y="1416600"/>
              <a:ext cx="822960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1"/>
            <p:cNvSpPr/>
            <p:nvPr/>
          </p:nvSpPr>
          <p:spPr>
            <a:xfrm>
              <a:off x="457200" y="1414440"/>
              <a:ext cx="8229600" cy="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3120" bIns="-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sngStrike" u="sng">
                <a:solidFill>
                  <a:srgbClr val="ffffff"/>
                </a:solidFill>
                <a:uFillTx/>
                <a:latin typeface="Arial"/>
              </a:rPr>
              <a:t>Click to edit the title text format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2f2f2f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Click to edit the outline text format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con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Third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3" marL="1600200" indent="-228600">
              <a:buClr>
                <a:srgbClr val="2f2f2f"/>
              </a:buClr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our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4" marL="2057400" indent="-228600">
              <a:buClr>
                <a:srgbClr val="2f2f2f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Fif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ix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Seventh Outline Level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100" spc="-1" strike="sng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AE82-765E-4B81-A4F4-815C81503A44}" type="slidenum">
              <a:rPr b="1" i="1" lang="en-US" sz="1100" spc="-1" strike="sng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1" i="1" lang="en-US" sz="1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844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小标宋_GBK"/>
              </a:rPr>
              <a:t>习近平总书记关于“三农”工作重要论述及乡村振兴有关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小标宋_GBK"/>
              </a:rPr>
              <a:t>政策法规</a:t>
            </a:r>
            <a:endParaRPr b="1" i="1" lang="en-US" sz="4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62160" y="38322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方正楷体_GBK"/>
              </a:rPr>
              <a:t>区乡村振兴局   田罡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文本框1"/>
          <p:cNvSpPr/>
          <p:nvPr/>
        </p:nvSpPr>
        <p:spPr>
          <a:xfrm>
            <a:off x="1308240" y="4599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Times New Roman"/>
              </a:rPr>
              <a:t>2021.09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兴有效衔接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63640" y="2484000"/>
            <a:ext cx="5778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脱贫攻坚取得决定性胜利，为乡村振兴奠定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了坚实基础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巩固拓展脱贫攻坚成果任务紧迫而繁重，容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不得半点懈怠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、从脱贫攻坚转向全面推进乡村振兴，做好衔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接工作至关重要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方正仿宋_GBK"/>
              </a:rPr>
              <a:t> 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0" name="文本框 1"/>
          <p:cNvSpPr/>
          <p:nvPr/>
        </p:nvSpPr>
        <p:spPr>
          <a:xfrm>
            <a:off x="836640" y="1673280"/>
            <a:ext cx="7850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(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一）深刻认识巩固拓展脱贫攻坚成果同乡村振兴有效衔接的重要意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6840" y="1406520"/>
            <a:ext cx="81961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Arial"/>
              </a:rPr>
              <a:t>    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楷体_GBK"/>
              </a:rPr>
              <a:t>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楷体_GBK"/>
              </a:rPr>
              <a:t> 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新宋体"/>
              </a:rPr>
              <a:t>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2" name="文本框1"/>
          <p:cNvSpPr/>
          <p:nvPr/>
        </p:nvSpPr>
        <p:spPr>
          <a:xfrm>
            <a:off x="5975280" y="605952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3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兴有效衔接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4" name="图示 1" descr=""/>
          <p:cNvPicPr/>
          <p:nvPr/>
        </p:nvPicPr>
        <p:blipFill>
          <a:blip r:embed="rId2"/>
          <a:stretch/>
        </p:blipFill>
        <p:spPr>
          <a:xfrm>
            <a:off x="1736640" y="2706840"/>
            <a:ext cx="609624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6" name="文本框1"/>
          <p:cNvSpPr/>
          <p:nvPr/>
        </p:nvSpPr>
        <p:spPr>
          <a:xfrm>
            <a:off x="6056280" y="60102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87" name="图示 3" descr=""/>
          <p:cNvPicPr/>
          <p:nvPr/>
        </p:nvPicPr>
        <p:blipFill>
          <a:blip r:embed="rId2"/>
          <a:stretch/>
        </p:blipFill>
        <p:spPr>
          <a:xfrm>
            <a:off x="1560600" y="1805040"/>
            <a:ext cx="6114960" cy="407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准确把握巩固拓展脱贫攻坚成果同乡村振兴有效衔接的内在联系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268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衔接点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一是设立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过渡期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二是突出“优先位置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三是明确“三大任务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四是坚持“三方发力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五是确保“平稳有序”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方正仿宋_GBK"/>
              </a:rPr>
              <a:t>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0" name="文本框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Times New Roman"/>
              </a:rPr>
              <a:t>       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保持主要帮扶政策总体稳定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强化防止返贫致贫动态监测和帮扶</a:t>
            </a: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坚持“两不愁三保障”和饮水安全常态化排查调度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建立完善农村低收入人口常态化帮扶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3" name="文本框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二、我国扶贫取得的成效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01640" y="149364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方正仿宋_GBK"/>
              </a:rPr>
              <a:t>     </a:t>
            </a:r>
            <a:r>
              <a:rPr b="1" i="1" lang="en-US" sz="2800" spc="-1" strike="sngStrike" u="sng">
                <a:solidFill>
                  <a:srgbClr val="ffffff"/>
                </a:solidFill>
                <a:uFillTx/>
                <a:latin typeface="新宋体"/>
              </a:rPr>
              <a:t> 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统筹推进乡村振兴发展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推动脱贫产业提质增效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促进一二三产业深度融合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探索建立产业带贫惠贫利益联结机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4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持续促进脱贫人口稳定就业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切实稳定外出就业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拓宽就地就近就业渠道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突出抓好巩固拓展脱贫攻坚成果同乡村振兴有效衔接的重点任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实施乡村建设行动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持续改善农村基础设施条件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持续开展农村人居环境整治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是持续提升农村公共服务水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6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统筹推进乡风文明建设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农村思想道德教育行动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乡土文化挖掘传承创新行动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（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）开展乡风治理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lvl="1" marL="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7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、建立乡村振兴重点帮扶机制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1"/>
          <p:cNvSpPr/>
          <p:nvPr/>
        </p:nvSpPr>
        <p:spPr>
          <a:xfrm>
            <a:off x="1311120" y="757080"/>
            <a:ext cx="6262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正确理解乡村振兴促进法必须把握三大要领：一是乡村振兴促进法是以增加农民收入、提高农民生活水平、提升农村文明程度为核心的振兴法；二是乡村振兴促进法主要是解决农业农村所承担的三大历史性任务，即保障好农产品供给安全、保护好农村生态屏障安全、传承好中国农村优秀文化传统；三是全面加强农村社会主义精神文明建设，包括思想政治、道德文化、社会文明等方面。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"/>
          <p:cNvSpPr/>
          <p:nvPr/>
        </p:nvSpPr>
        <p:spPr>
          <a:xfrm>
            <a:off x="1082520" y="766800"/>
            <a:ext cx="67629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0" name="文本框1"/>
          <p:cNvSpPr/>
          <p:nvPr/>
        </p:nvSpPr>
        <p:spPr>
          <a:xfrm>
            <a:off x="958680" y="766800"/>
            <a:ext cx="720108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一）要因地制宜促进乡村产业发展，进一步增加农民收入、提高农民生活水平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第八条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国家实施以我为主、立足国内、确保产能、适度进口、科技支撑的粮食安全战略，坚持藏粮于地、藏粮于技，采取措施不断提高粮食综合生产能力，建设国家粮食安全产业带，完善粮食加工、流通、储备体系，确保谷物基本自给、口粮绝对安全，保障国家粮食安全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　　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1"/>
          <p:cNvSpPr/>
          <p:nvPr/>
        </p:nvSpPr>
        <p:spPr>
          <a:xfrm>
            <a:off x="0" y="985680"/>
            <a:ext cx="914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第十四条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国家建立农用地分类管理制度，严格保护耕地，严格控制农用地转为建设用地，严格控制耕地转为林地、园地等其他类型农用地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国家实行永久基本农田保护制度，建设粮食生产功能区、重要农产品生产保护区，建设并保护高标准农田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　　第十五条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国家加强农业种质资源保护利用和种质资源库建设，支持育种基础性、前沿性和应用技术研究，实施农作物和畜禽等良种培育、育种关键技术攻关，鼓励种业科技成果转化和优良品种推广，建立并实施种业国家安全审查机制，促进种业高质量发展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sngStrike" u="sng">
                <a:solidFill>
                  <a:srgbClr val="ffffff"/>
                </a:solidFill>
                <a:uFillTx/>
                <a:latin typeface="微软雅黑"/>
              </a:rPr>
              <a:t>目 录</a:t>
            </a:r>
            <a:endParaRPr b="1" i="1" lang="en-US" sz="36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920" y="1628640"/>
            <a:ext cx="8280360" cy="38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一、简要回顾我国扶贫历程及政策演变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二、巩固拓展脱贫攻坚成果、实现同乡村振       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sng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兴有效衔接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0360" y="456840"/>
            <a:ext cx="3124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要培养造就新型职业农民队伍</a:t>
            </a:r>
            <a:br>
              <a:rPr sz="2800"/>
            </a:b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30360" y="2057400"/>
            <a:ext cx="3124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微软雅黑"/>
              </a:rPr>
              <a:t>“</a:t>
            </a:r>
            <a:r>
              <a:rPr b="0" lang="en-US" sz="2000" spc="-1" strike="noStrike">
                <a:solidFill>
                  <a:srgbClr val="0d0d0d"/>
                </a:solidFill>
                <a:latin typeface="微软雅黑"/>
              </a:rPr>
              <a:t>386199</a:t>
            </a:r>
            <a:r>
              <a:rPr b="0" lang="zh-CN" sz="2000" spc="-1" strike="noStrike">
                <a:solidFill>
                  <a:srgbClr val="0d0d0d"/>
                </a:solidFill>
                <a:latin typeface="微软雅黑"/>
              </a:rPr>
              <a:t>部队”现象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386199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部队”不是一个真正部队的番号，但却是一个有着几亿成员的“特种部队”，这是在中国城市化过程中，农村大量男性青壮年劳动力外出打工后，在中国农村自然而然形成的最庞大的队伍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4" name="文本框 4"/>
          <p:cNvSpPr/>
          <p:nvPr/>
        </p:nvSpPr>
        <p:spPr>
          <a:xfrm>
            <a:off x="4346640" y="998640"/>
            <a:ext cx="4545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8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“三八”节，这里特指妇女。过去讲妇女能顶半边天，如今农村多数男劳力外出打工去了，许多妇女已经独自撑起了一片天，成为农业生产的主力军，更显巾帼英雄本色。即使在农闲，上有老、下有小，妇女同胞们柔嫩的双肩承受的生活负担也不轻松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61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“六一”节，这里特指儿童。儿童本应在父母呵护中成长，如今父亲们都去打工了，许多妈妈也去了，孩子们只能由爷爷婆婆、外公外婆照顾，虽然都说隔代亲隔代亲、隔代很亲，但终不能代替父母之爱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99”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指农历九月九，既是重阳节，也是老人节，这里特指老人。儿子、儿媳打工去了，老人们不得不老当益壮，下地做农活，回家照顾孙儿、孙女，一年到头，难得享清闲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1"/>
          <p:cNvSpPr/>
          <p:nvPr/>
        </p:nvSpPr>
        <p:spPr>
          <a:xfrm>
            <a:off x="1665360" y="503280"/>
            <a:ext cx="5813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三、简要解读乡村振兴促进法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6" name="文本框1"/>
          <p:cNvSpPr/>
          <p:nvPr/>
        </p:nvSpPr>
        <p:spPr>
          <a:xfrm>
            <a:off x="971640" y="1808280"/>
            <a:ext cx="7200720" cy="29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三）要传承好农村优秀传统文化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四）要加强农村生态环境保护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五）要加强农村基层政权建设，巩固和确保党长期执政的基层基础</a:t>
            </a: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Arial"/>
              </a:rPr>
              <a:t>把乡镇建设成为乡村治理中心、农村服务中心、乡村经济中心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0400" y="549000"/>
            <a:ext cx="8156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sngStrike" u="sng">
                <a:solidFill>
                  <a:srgbClr val="ffffff"/>
                </a:solidFill>
                <a:uFillTx/>
                <a:latin typeface="微软雅黑"/>
              </a:rPr>
              <a:t>（六）要保障好维护好农民的合法权益</a:t>
            </a:r>
            <a:br>
              <a:rPr sz="2800"/>
            </a:br>
            <a:endParaRPr b="1" i="1" lang="en-US" sz="2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08" name="文本框 4"/>
          <p:cNvSpPr/>
          <p:nvPr/>
        </p:nvSpPr>
        <p:spPr>
          <a:xfrm>
            <a:off x="320760" y="1449360"/>
            <a:ext cx="850572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一是各级政府要承担起应有的职责。各级政府及其相关部门要严格执行法律规定，确保不打折扣、不作变通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二是各级人大要发挥好职能作用。各级人大要高度重视，认真做好听取审议专项工作报告的有关工作，不断完善工作机制，切实履行好这一法定职责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三是加快完善法律制度体系。现有的涉农法律有综合法，要对这些法律进行研究梳理，适应农业农村发展需要，统筹开展制定和修改工作。抓紧制定配套规章制度，将法律确定的重要原则和制度要求等转化为可操作、能考核、能落地的制度措施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四是做好普法宣传。通过多种方式解读法律政策，让广大农村干部群众准确理解把握法律相关规定。抓住领导干部这个关键，加强学习培训，增强运用法治思维和法治方式推进乡村振兴的能力和水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66640" y="2303280"/>
            <a:ext cx="82296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sng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endParaRPr b="1" i="1" lang="en-US" sz="5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210" name="矩形 1" descr=""/>
          <p:cNvPicPr/>
          <p:nvPr/>
        </p:nvPicPr>
        <p:blipFill>
          <a:blip r:embed="rId2"/>
          <a:stretch/>
        </p:blipFill>
        <p:spPr>
          <a:xfrm>
            <a:off x="2859120" y="2359080"/>
            <a:ext cx="4578480" cy="1573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单圆角矩形 10"/>
          <p:cNvSpPr/>
          <p:nvPr/>
        </p:nvSpPr>
        <p:spPr>
          <a:xfrm>
            <a:off x="6102360" y="1523880"/>
            <a:ext cx="2519280" cy="6480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cubicBezTo>
                  <a:pt x="0" y="0"/>
                  <a:pt x="19186" y="0"/>
                  <a:pt x="19186" y="0"/>
                </a:cubicBezTo>
                <a:cubicBezTo>
                  <a:pt x="19635" y="0"/>
                  <a:pt x="19999" y="1492"/>
                  <a:pt x="19999" y="3333"/>
                </a:cubicBezTo>
                <a:lnTo>
                  <a:pt x="20000" y="20000"/>
                </a:lnTo>
                <a:lnTo>
                  <a:pt x="0" y="2000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grpSp>
        <p:nvGrpSpPr>
          <p:cNvPr id="105" name="组合 26"/>
          <p:cNvGrpSpPr/>
          <p:nvPr/>
        </p:nvGrpSpPr>
        <p:grpSpPr>
          <a:xfrm>
            <a:off x="4756320" y="2193840"/>
            <a:ext cx="3011400" cy="1015920"/>
            <a:chOff x="4756320" y="2193840"/>
            <a:chExt cx="3011400" cy="1015920"/>
          </a:xfrm>
        </p:grpSpPr>
        <p:sp>
          <p:nvSpPr>
            <p:cNvPr id="106" name="单圆角矩形 27"/>
            <p:cNvSpPr/>
            <p:nvPr/>
          </p:nvSpPr>
          <p:spPr>
            <a:xfrm>
              <a:off x="4756320" y="2561400"/>
              <a:ext cx="3011400" cy="64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上箭头 28"/>
            <p:cNvSpPr/>
            <p:nvPr/>
          </p:nvSpPr>
          <p:spPr>
            <a:xfrm>
              <a:off x="7142040" y="2193840"/>
              <a:ext cx="625680" cy="367560"/>
            </a:xfrm>
            <a:prstGeom prst="upArrow">
              <a:avLst>
                <a:gd name="adj1" fmla="val 50000"/>
                <a:gd name="adj2" fmla="val 52903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08" name="组合 23"/>
          <p:cNvGrpSpPr/>
          <p:nvPr/>
        </p:nvGrpSpPr>
        <p:grpSpPr>
          <a:xfrm>
            <a:off x="3243240" y="3205080"/>
            <a:ext cx="2757600" cy="909720"/>
            <a:chOff x="3243240" y="3205080"/>
            <a:chExt cx="2757600" cy="909720"/>
          </a:xfrm>
        </p:grpSpPr>
        <p:sp>
          <p:nvSpPr>
            <p:cNvPr id="109" name="单圆角矩形 24"/>
            <p:cNvSpPr/>
            <p:nvPr/>
          </p:nvSpPr>
          <p:spPr>
            <a:xfrm>
              <a:off x="3243240" y="3720600"/>
              <a:ext cx="2757600" cy="394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上箭头 25"/>
            <p:cNvSpPr/>
            <p:nvPr/>
          </p:nvSpPr>
          <p:spPr>
            <a:xfrm>
              <a:off x="5348880" y="3205080"/>
              <a:ext cx="552240" cy="526680"/>
            </a:xfrm>
            <a:prstGeom prst="upArrow">
              <a:avLst>
                <a:gd name="adj1" fmla="val 50000"/>
                <a:gd name="adj2" fmla="val 36968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11" name="组合 20"/>
          <p:cNvGrpSpPr/>
          <p:nvPr/>
        </p:nvGrpSpPr>
        <p:grpSpPr>
          <a:xfrm>
            <a:off x="1827360" y="4132440"/>
            <a:ext cx="2487600" cy="1152360"/>
            <a:chOff x="1827360" y="4132440"/>
            <a:chExt cx="2487600" cy="1152360"/>
          </a:xfrm>
        </p:grpSpPr>
        <p:sp>
          <p:nvSpPr>
            <p:cNvPr id="112" name="单圆角矩形 21"/>
            <p:cNvSpPr/>
            <p:nvPr/>
          </p:nvSpPr>
          <p:spPr>
            <a:xfrm>
              <a:off x="1827360" y="4637160"/>
              <a:ext cx="2487600" cy="647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上箭头 22"/>
            <p:cNvSpPr/>
            <p:nvPr/>
          </p:nvSpPr>
          <p:spPr>
            <a:xfrm>
              <a:off x="3762360" y="4132440"/>
              <a:ext cx="552240" cy="504720"/>
            </a:xfrm>
            <a:prstGeom prst="upArrow">
              <a:avLst>
                <a:gd name="adj1" fmla="val 50000"/>
                <a:gd name="adj2" fmla="val 38532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114" name="组合 18"/>
          <p:cNvGrpSpPr/>
          <p:nvPr/>
        </p:nvGrpSpPr>
        <p:grpSpPr>
          <a:xfrm>
            <a:off x="187200" y="5284800"/>
            <a:ext cx="2659320" cy="1036800"/>
            <a:chOff x="187200" y="5284800"/>
            <a:chExt cx="2659320" cy="1036800"/>
          </a:xfrm>
        </p:grpSpPr>
        <p:sp>
          <p:nvSpPr>
            <p:cNvPr id="115" name="单圆角矩形 7"/>
            <p:cNvSpPr/>
            <p:nvPr/>
          </p:nvSpPr>
          <p:spPr>
            <a:xfrm>
              <a:off x="187200" y="5673600"/>
              <a:ext cx="2659320" cy="6480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cubicBezTo>
                    <a:pt x="0" y="0"/>
                    <a:pt x="19182" y="0"/>
                    <a:pt x="19182" y="0"/>
                  </a:cubicBezTo>
                  <a:cubicBezTo>
                    <a:pt x="19632" y="0"/>
                    <a:pt x="19995" y="1488"/>
                    <a:pt x="19995" y="3330"/>
                  </a:cubicBezTo>
                  <a:lnTo>
                    <a:pt x="20000" y="20000"/>
                  </a:lnTo>
                  <a:lnTo>
                    <a:pt x="0" y="20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dee4"/>
            </a:solidFill>
            <a:ln w="25560">
              <a:solidFill>
                <a:srgbClr val="cede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上箭头 13"/>
            <p:cNvSpPr/>
            <p:nvPr/>
          </p:nvSpPr>
          <p:spPr>
            <a:xfrm>
              <a:off x="2293920" y="5284800"/>
              <a:ext cx="552600" cy="388800"/>
            </a:xfrm>
            <a:prstGeom prst="upArrow">
              <a:avLst>
                <a:gd name="adj1" fmla="val 50000"/>
                <a:gd name="adj2" fmla="val 49986"/>
              </a:avLst>
            </a:prstGeom>
            <a:solidFill>
              <a:srgbClr val="b6ced7"/>
            </a:solidFill>
            <a:ln w="25560">
              <a:solidFill>
                <a:srgbClr val="cede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sng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微软雅黑"/>
              </a:rPr>
              <a:t>一、简要回顾我国扶贫历程及政策演变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189000" y="5813280"/>
            <a:ext cx="265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广义扶贫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49-1978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827360" y="4640400"/>
            <a:ext cx="2487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农村集中贫困地区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78-1985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0" name="文本框 3"/>
          <p:cNvSpPr/>
          <p:nvPr/>
        </p:nvSpPr>
        <p:spPr>
          <a:xfrm>
            <a:off x="3211560" y="3738600"/>
            <a:ext cx="278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县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1986-2000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4699080" y="2701800"/>
            <a:ext cx="288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村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2001-2013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6000840" y="1663560"/>
            <a:ext cx="2685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瞄准贫困户（</a:t>
            </a:r>
            <a:r>
              <a:rPr b="1" i="1" lang="en-US" sz="1800" spc="-1" strike="sngStrike" u="sng">
                <a:solidFill>
                  <a:srgbClr val="ffffff"/>
                </a:solidFill>
                <a:uFillTx/>
                <a:latin typeface="微软雅黑"/>
              </a:rPr>
              <a:t>2013 </a:t>
            </a: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"/>
              </a:rPr>
              <a:t>至今）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75280" y="5876640"/>
            <a:ext cx="3168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微软雅黑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7932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农村经济发展措施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土地制度改革、人民公社集体经济体制、农村财产公有制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小规模的救济式扶贫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边远落后地区、因灾致贫人口和战争伤残人口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“救急不救穷”；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，根据我国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贫困线标准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00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元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/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*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人，农村贫困人口规模高达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. 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亿人，农村贫困发生率达到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30. 7%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5" name="文本框1"/>
          <p:cNvSpPr/>
          <p:nvPr/>
        </p:nvSpPr>
        <p:spPr>
          <a:xfrm>
            <a:off x="297000" y="171360"/>
            <a:ext cx="81356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一）广义扶贫：实施计划经济体制下的救济式扶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49—1978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标题 1"/>
          <p:cNvSpPr/>
          <p:nvPr/>
        </p:nvSpPr>
        <p:spPr>
          <a:xfrm>
            <a:off x="557280" y="27936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二）瞄准农村集中贫困地区：通过体制改革下的救济式扶贫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78—1985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年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1015920" y="1584360"/>
            <a:ext cx="711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农村经济发展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家庭承包经营制度取代人民公社集体经营制度，农产品进入市场，发展工商业增加农民收入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0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 “支援经济不发达地区发展资金”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2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 “三西”专项建设资金；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4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划定了 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8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集中连片贫困区进行重点扶持。直接转移资金的“输血式”扶贫，具有救济性特征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普遍性贫困特征的农村地区、极端贫困集中的连片贫困区。 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解决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贫困人口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.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降为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2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，贫困发生率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7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0.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降低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8" name="文本框1"/>
          <p:cNvSpPr/>
          <p:nvPr/>
        </p:nvSpPr>
        <p:spPr>
          <a:xfrm>
            <a:off x="6033960" y="6189840"/>
            <a:ext cx="3168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三）瞄准贫困县：开发式扶贫制度化和八七扶贫攻坚阶段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1986- 2000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22000" y="1293480"/>
            <a:ext cx="816444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从中央至地方政府设置官方农村扶贫机构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6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中央政府首次确定国定贫困县标准，将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3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贫困县列入国家重点扶持范围；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94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国务院颁布《国家八七扶贫攻坚计划》，贫困县的数量调整为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59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个，实施有组织、有计划、大规模的开发式扶贫，从救济式扶贫转向开发式扶贫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以贫困县作为重点扶持范围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解决温饱、巩固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自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6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－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，全国农村贫困人口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2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亿减少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贫困发生率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98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％降低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３％左右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1" name="文本框1"/>
          <p:cNvSpPr/>
          <p:nvPr/>
        </p:nvSpPr>
        <p:spPr>
          <a:xfrm>
            <a:off x="5994360" y="619452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（四）瞄准贫困村：“大扶贫”格局的形成和发展阶段 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001- 2013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9160" y="1493640"/>
            <a:ext cx="843588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党的十六大提出“全面繁荣农村经济”，形成集行业、区域和社会一体的大扶贫格局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5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十六届五中全会提出建设“社会主义新农村”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6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全面取消农业税，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7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新型农村合作医疗， 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9 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建立农村最低生活保障制度和农村社会养老保险制度，扶贫政策 “大扶贫格局”的形成和发展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4.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个贫困村，整村推进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巩固温饱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根据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的标准，贫困人口数量从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01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6102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降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68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脱贫人口规模达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3414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，贫困发生率下降到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.8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，绝对贫困问题得到有效缓解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4" name="文本框1"/>
          <p:cNvSpPr/>
          <p:nvPr/>
        </p:nvSpPr>
        <p:spPr>
          <a:xfrm>
            <a:off x="5985000" y="5950080"/>
            <a:ext cx="31683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方正黑体_GBK"/>
              </a:rPr>
              <a:t>（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五）瞄准贫困户：脱贫攻坚和精准扶贫阶段 （</a:t>
            </a:r>
            <a:r>
              <a:rPr b="1" i="1" lang="en-US" sz="2400" spc="-1" strike="sngStrike" u="sng">
                <a:solidFill>
                  <a:srgbClr val="ffffff"/>
                </a:solidFill>
                <a:uFillTx/>
                <a:latin typeface="微软雅黑"/>
              </a:rPr>
              <a:t>2013 </a:t>
            </a:r>
            <a:r>
              <a:rPr b="1" i="1" lang="zh-CN" sz="2400" spc="-1" strike="sngStrike" u="sng">
                <a:solidFill>
                  <a:srgbClr val="ffffff"/>
                </a:solidFill>
                <a:uFillTx/>
                <a:latin typeface="微软雅黑"/>
              </a:rPr>
              <a:t>至今）</a:t>
            </a: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26828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措施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建档立卡、“五个一批”、“六个精准”、加大财政投入、完善政策支持体系，实施精准扶贫，解决好扶持谁、谁来扶、怎么扶、如何退问题，把扶贫扶到点上扶到根上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对象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精准到户到人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        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目标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稳定解决“两不愁、三保障”；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扶贫成效：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按照我国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贫困线标准，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3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农村贫困人口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9899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人减少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2018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年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160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万人；农村贫困发生率由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0.2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下降至</a:t>
            </a:r>
            <a:r>
              <a:rPr b="1" i="1" lang="en-US" sz="2000" spc="-1" strike="sngStrike" u="sng">
                <a:solidFill>
                  <a:srgbClr val="ffffff"/>
                </a:solidFill>
                <a:uFillTx/>
                <a:latin typeface="微软雅黑"/>
              </a:rPr>
              <a:t>1.7%</a:t>
            </a:r>
            <a:r>
              <a:rPr b="1" i="1" lang="zh-CN" sz="2000" spc="-1" strike="sngStrike" u="sng">
                <a:solidFill>
                  <a:srgbClr val="ffffff"/>
                </a:solidFill>
                <a:uFillTx/>
                <a:latin typeface="微软雅黑"/>
              </a:rPr>
              <a:t>。</a:t>
            </a:r>
            <a:endParaRPr b="1" i="1" lang="en-US" sz="20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37" name="文本框1"/>
          <p:cNvSpPr/>
          <p:nvPr/>
        </p:nvSpPr>
        <p:spPr>
          <a:xfrm>
            <a:off x="5975280" y="608004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2"/>
          <a:srcRect l="19306" t="20720" r="18476" b="22175"/>
          <a:stretch/>
        </p:blipFill>
        <p:spPr>
          <a:xfrm>
            <a:off x="6551640" y="2022480"/>
            <a:ext cx="1370160" cy="147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椭圆 35"/>
          <p:cNvSpPr/>
          <p:nvPr/>
        </p:nvSpPr>
        <p:spPr>
          <a:xfrm>
            <a:off x="485640" y="4734000"/>
            <a:ext cx="935280" cy="9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0" name="椭圆 34"/>
          <p:cNvSpPr/>
          <p:nvPr/>
        </p:nvSpPr>
        <p:spPr>
          <a:xfrm>
            <a:off x="450720" y="3330720"/>
            <a:ext cx="935280" cy="93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41" name="椭圆 33"/>
          <p:cNvSpPr/>
          <p:nvPr/>
        </p:nvSpPr>
        <p:spPr>
          <a:xfrm>
            <a:off x="457200" y="1866960"/>
            <a:ext cx="936720" cy="936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994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2" name="圆角矩形 31" descr=""/>
          <p:cNvPicPr/>
          <p:nvPr/>
        </p:nvPicPr>
        <p:blipFill>
          <a:blip r:embed="rId2"/>
          <a:stretch/>
        </p:blipFill>
        <p:spPr>
          <a:xfrm>
            <a:off x="6062760" y="4840200"/>
            <a:ext cx="2825640" cy="644760"/>
          </a:xfrm>
          <a:prstGeom prst="rect">
            <a:avLst/>
          </a:prstGeom>
          <a:ln w="0">
            <a:noFill/>
          </a:ln>
        </p:spPr>
      </p:pic>
      <p:pic>
        <p:nvPicPr>
          <p:cNvPr id="143" name="圆角矩形 30" descr=""/>
          <p:cNvPicPr/>
          <p:nvPr/>
        </p:nvPicPr>
        <p:blipFill>
          <a:blip r:embed="rId3"/>
          <a:stretch/>
        </p:blipFill>
        <p:spPr>
          <a:xfrm>
            <a:off x="3730680" y="487692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4" name="圆角矩形 29" descr=""/>
          <p:cNvPicPr/>
          <p:nvPr/>
        </p:nvPicPr>
        <p:blipFill>
          <a:blip r:embed="rId4"/>
          <a:stretch/>
        </p:blipFill>
        <p:spPr>
          <a:xfrm>
            <a:off x="1481040" y="4876920"/>
            <a:ext cx="1575000" cy="571320"/>
          </a:xfrm>
          <a:prstGeom prst="rect">
            <a:avLst/>
          </a:prstGeom>
          <a:ln w="0">
            <a:noFill/>
          </a:ln>
        </p:spPr>
      </p:pic>
      <p:pic>
        <p:nvPicPr>
          <p:cNvPr id="145" name="圆角矩形 26" descr=""/>
          <p:cNvPicPr/>
          <p:nvPr/>
        </p:nvPicPr>
        <p:blipFill>
          <a:blip r:embed="rId5"/>
          <a:stretch/>
        </p:blipFill>
        <p:spPr>
          <a:xfrm>
            <a:off x="6275520" y="341316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6" name="圆角矩形 27" descr=""/>
          <p:cNvPicPr/>
          <p:nvPr/>
        </p:nvPicPr>
        <p:blipFill>
          <a:blip r:embed="rId6"/>
          <a:stretch/>
        </p:blipFill>
        <p:spPr>
          <a:xfrm>
            <a:off x="3781440" y="3413160"/>
            <a:ext cx="157464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圆角矩形 28" descr=""/>
          <p:cNvPicPr/>
          <p:nvPr/>
        </p:nvPicPr>
        <p:blipFill>
          <a:blip r:embed="rId7"/>
          <a:stretch/>
        </p:blipFill>
        <p:spPr>
          <a:xfrm>
            <a:off x="1376280" y="3413160"/>
            <a:ext cx="1575000" cy="571320"/>
          </a:xfrm>
          <a:prstGeom prst="rect">
            <a:avLst/>
          </a:prstGeom>
          <a:ln w="0">
            <a:noFill/>
          </a:ln>
        </p:spPr>
      </p:pic>
      <p:pic>
        <p:nvPicPr>
          <p:cNvPr id="148" name="圆角矩形 22" descr=""/>
          <p:cNvPicPr/>
          <p:nvPr/>
        </p:nvPicPr>
        <p:blipFill>
          <a:blip r:embed="rId8"/>
          <a:stretch/>
        </p:blipFill>
        <p:spPr>
          <a:xfrm>
            <a:off x="7248600" y="2006640"/>
            <a:ext cx="1185840" cy="573120"/>
          </a:xfrm>
          <a:prstGeom prst="rect">
            <a:avLst/>
          </a:prstGeom>
          <a:ln w="0">
            <a:noFill/>
          </a:ln>
        </p:spPr>
      </p:pic>
      <p:pic>
        <p:nvPicPr>
          <p:cNvPr id="149" name="圆角矩形 23" descr=""/>
          <p:cNvPicPr/>
          <p:nvPr/>
        </p:nvPicPr>
        <p:blipFill>
          <a:blip r:embed="rId9"/>
          <a:stretch/>
        </p:blipFill>
        <p:spPr>
          <a:xfrm>
            <a:off x="5830920" y="2016000"/>
            <a:ext cx="121428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圆角矩形 24" descr=""/>
          <p:cNvPicPr/>
          <p:nvPr/>
        </p:nvPicPr>
        <p:blipFill>
          <a:blip r:embed="rId10"/>
          <a:stretch/>
        </p:blipFill>
        <p:spPr>
          <a:xfrm>
            <a:off x="4343400" y="2006640"/>
            <a:ext cx="128412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圆角矩形 25" descr=""/>
          <p:cNvPicPr/>
          <p:nvPr/>
        </p:nvPicPr>
        <p:blipFill>
          <a:blip r:embed="rId11"/>
          <a:stretch/>
        </p:blipFill>
        <p:spPr>
          <a:xfrm>
            <a:off x="2952720" y="2006640"/>
            <a:ext cx="115560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圆角矩形 19" descr=""/>
          <p:cNvPicPr/>
          <p:nvPr/>
        </p:nvPicPr>
        <p:blipFill>
          <a:blip r:embed="rId12"/>
          <a:stretch/>
        </p:blipFill>
        <p:spPr>
          <a:xfrm>
            <a:off x="1403280" y="2006640"/>
            <a:ext cx="1346400" cy="571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sngStrike" u="sng">
                <a:solidFill>
                  <a:srgbClr val="ffffff"/>
                </a:solidFill>
                <a:uFillTx/>
                <a:latin typeface="方正仿宋_GBK"/>
              </a:rPr>
              <a:t>总体情况</a:t>
            </a:r>
            <a:endParaRPr b="1" i="1" lang="en-US" sz="3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4" name="标题 1"/>
          <p:cNvSpPr/>
          <p:nvPr/>
        </p:nvSpPr>
        <p:spPr>
          <a:xfrm>
            <a:off x="5724360" y="5877000"/>
            <a:ext cx="3168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sngStrike" u="sng">
                <a:solidFill>
                  <a:srgbClr val="ffffff"/>
                </a:solidFill>
                <a:uFillTx/>
                <a:latin typeface="方正仿宋_GBK"/>
              </a:rPr>
              <a:t>一、我国扶贫工作的发展历程</a:t>
            </a:r>
            <a:endParaRPr b="1" i="1" lang="en-US" sz="12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1446120" y="2151000"/>
            <a:ext cx="145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救急不救穷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6" name="文本框 2"/>
          <p:cNvSpPr/>
          <p:nvPr/>
        </p:nvSpPr>
        <p:spPr>
          <a:xfrm>
            <a:off x="2981160" y="2117880"/>
            <a:ext cx="110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贫困地区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7" name="文本框 4"/>
          <p:cNvSpPr/>
          <p:nvPr/>
        </p:nvSpPr>
        <p:spPr>
          <a:xfrm>
            <a:off x="4473720" y="2119320"/>
            <a:ext cx="99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贫困县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5904000" y="2117880"/>
            <a:ext cx="11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整村推进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59" name="文本框 6"/>
          <p:cNvSpPr/>
          <p:nvPr/>
        </p:nvSpPr>
        <p:spPr>
          <a:xfrm>
            <a:off x="7283520" y="2076480"/>
            <a:ext cx="115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精准到户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0" name="文本框 7"/>
          <p:cNvSpPr/>
          <p:nvPr/>
        </p:nvSpPr>
        <p:spPr>
          <a:xfrm>
            <a:off x="1550880" y="3514680"/>
            <a:ext cx="155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救济式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1" name="文本框 8"/>
          <p:cNvSpPr/>
          <p:nvPr/>
        </p:nvSpPr>
        <p:spPr>
          <a:xfrm>
            <a:off x="3851280" y="3514680"/>
            <a:ext cx="13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开发式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6510240" y="3514680"/>
            <a:ext cx="120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多维扶贫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1619280" y="5010120"/>
            <a:ext cx="122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解决温饱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4" name="文本框 12"/>
          <p:cNvSpPr/>
          <p:nvPr/>
        </p:nvSpPr>
        <p:spPr>
          <a:xfrm>
            <a:off x="3924360" y="5010120"/>
            <a:ext cx="143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巩固温饱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5" name="文本框 13"/>
          <p:cNvSpPr/>
          <p:nvPr/>
        </p:nvSpPr>
        <p:spPr>
          <a:xfrm>
            <a:off x="6073920" y="4973760"/>
            <a:ext cx="274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稳定解决“两不愁三保障”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6" name="文本框 14"/>
          <p:cNvSpPr/>
          <p:nvPr/>
        </p:nvSpPr>
        <p:spPr>
          <a:xfrm>
            <a:off x="604800" y="2011320"/>
            <a:ext cx="84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对象精准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7" name="文本框 15"/>
          <p:cNvSpPr/>
          <p:nvPr/>
        </p:nvSpPr>
        <p:spPr>
          <a:xfrm>
            <a:off x="500040" y="351468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方式多元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8" name="文本框 16"/>
          <p:cNvSpPr/>
          <p:nvPr/>
        </p:nvSpPr>
        <p:spPr>
          <a:xfrm>
            <a:off x="619200" y="488304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Arial"/>
              </a:rPr>
              <a:t>目标提高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9" name="文本框 44"/>
          <p:cNvSpPr/>
          <p:nvPr/>
        </p:nvSpPr>
        <p:spPr>
          <a:xfrm>
            <a:off x="2055960" y="1555920"/>
            <a:ext cx="5118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sngStrike" u="sng">
                <a:solidFill>
                  <a:srgbClr val="ffffff"/>
                </a:solidFill>
                <a:uFillTx/>
                <a:latin typeface="微软雅黑 Light"/>
              </a:rPr>
              <a:t>探索更加符合国情和发展阶段的扶贫脱贫之路</a:t>
            </a:r>
            <a:endParaRPr b="1" i="1" lang="en-US" sz="18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717640" y="2260440"/>
            <a:ext cx="255600" cy="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087800" y="2244600"/>
            <a:ext cx="255600" cy="9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589720" y="2281320"/>
            <a:ext cx="25560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0280" y="2254320"/>
            <a:ext cx="254160" cy="9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37000" y="3605040"/>
            <a:ext cx="935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981160" y="5065560"/>
            <a:ext cx="800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895480" y="3605040"/>
            <a:ext cx="935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73640" y="5043600"/>
            <a:ext cx="839880" cy="25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c47546"/>
            </a:solidFill>
            <a:miter/>
          </a:ln>
        </p:spPr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7T04:09:02Z</dcterms:created>
  <dc:creator/>
  <dc:description/>
  <dc:language>en-US</dc:language>
  <cp:lastModifiedBy/>
  <dcterms:modified xsi:type="dcterms:W3CDTF">2021-09-27T15:56:28Z</dcterms:modified>
  <cp:revision>0</cp:revision>
  <dc:subject/>
  <dc:title>巩固拓展脱贫攻坚成果全面推进乡村振兴</dc:title>
</cp:coreProperties>
</file>