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924-D972-410C-811F-DC94405B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6EE-B3E4-490E-90A3-53960CCE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1C57-BEFF-42C0-8453-4A33DDBD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C36-72F3-4998-B21D-BBC835EE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5BEE-23BC-4E8A-89E2-2B049B85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4FCA-596C-47CF-91A7-1DB6DE3E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840B-B4D8-4B63-9FA4-089844D0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5925-00A7-47A4-A283-7C851F29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7D6C-B75A-4230-8DBE-2B0BCA2B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044C-2AEE-487D-855A-82856649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8172-E676-4CAC-AAEF-E64FDAB1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B8C-1D22-44F3-A7BF-51E85FDB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8019-5E2F-49BD-87D1-D8C419DD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BC77-3153-42F6-AA3E-F42A5BA3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36EE-5D0C-4101-9F18-D90EF2D7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C5E2-3372-4CE3-B938-7DC7A3E9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7B8D-F52D-4754-8430-2C163477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70E-1C44-4CA2-8238-FA5D8D03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D49-C22D-4241-9FAF-FE0B0C9E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0C7-6A55-4178-9E5F-47096BA7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4EC-AAB4-4C18-AB09-6ADFAE0A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57A-9F9C-4024-A6EF-56C654E3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A22-4F97-4724-8EC5-29A7C982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40F-AD18-4AD0-9225-646F20EE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1801-B4FB-4EB9-A9B2-38C2F1298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EAE2-135B-4EEC-8262-5E387B5EC2F6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2514600" y="329256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重庆市涪陵区扶贫开发办公室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62520" y="3886200"/>
            <a:ext cx="1447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田</a:t>
            </a:r>
            <a:r>
              <a:rPr b="0" lang="en-US" sz="24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</a:t>
            </a:r>
            <a:r>
              <a:rPr b="0" lang="zh-CN" sz="24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罡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685800" y="2514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帮扶干部入户走访“六看六问”工作法</a:t>
            </a:r>
            <a:r>
              <a:rPr b="0" lang="en-US" sz="36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04920" y="2209680"/>
            <a:ext cx="8534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三问教育资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详细了解贫困户家庭子女义务教育阶段享受教育资助情况，问资助是否到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457200" y="23623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四问饮水安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详细了解贫困户能否正常饮水，水量、水质以及用水方便程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04920" y="990720"/>
            <a:ext cx="83818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五问小额信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详细了解贫困户扶贫小额信贷获贷情况、投入产业发展情况、扶贫小额信贷政策的知晓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1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什么是扶贫小额信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2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扶贫小额信贷的对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3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扶贫小额信贷的主要用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4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扶贫小额信贷中的实施主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5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帮扶干部在扶贫小额信贷中的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533520" y="220968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六问帮扶需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详细了解贫困户致贫原因、生产生活中存在实际困难以及亟需解决的突出问题，问对帮扶工作是否满意、还有什么诉求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429000" y="2819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谢谢！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120" y="205704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          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一看环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看贫困户周边环境是否存在“脏乱差”现象、室内室外房前屋后是否清洁卫生、院坝庭院生产生活工具是否分类摆放整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533520" y="1981080"/>
            <a:ext cx="830556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二看住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看贫困户所住房屋是否存在安全隐患、是否是唯一住房、是否有经济能力改造、是否长期无人居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方正楷体_GBK"/>
                <a:ea typeface="方正楷体_GBK"/>
              </a:rPr>
              <a:t>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80880" y="2057400"/>
            <a:ext cx="8534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三看吃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看贫困户家里有无满足基本生活需求的口粮及其他必要营养食品、家庭成员有无四季换洗衣服和棉被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457200" y="1752480"/>
            <a:ext cx="8381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四看专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看户专栏上明白卡基础信息是否真实准确、联心卡基本信息是否真实准确、扶贫惠民政策摘编是否表述准确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457200" y="19051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五看手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看《重庆市脱贫攻坚帮扶手册》帮扶措施是否齐全、帮扶成效是否明显、填写是否规范、收入台账是否前后一致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57200" y="205740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六看资料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看有无贫困户收入调查表、扶贫到户政策汇编、医疗服务协议、各类保险单据、帮扶手册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457200" y="137160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一问家庭收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详细了解贫困户家庭成员所从事职业及家庭经营性、工资性、财产性、保障性收入等情况，问收入是否达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743200" y="3886200"/>
            <a:ext cx="4648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1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发展扶贫产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2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开展就业扶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3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做好兜底保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79a5"/>
                </a:solidFill>
                <a:latin typeface="Times New Roman"/>
                <a:ea typeface="方正仿宋_GBK"/>
              </a:rPr>
              <a:t>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533520" y="1066680"/>
            <a:ext cx="8001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二问医疗救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详细了解贫困户家庭成员医保参保情况、特病卡办理情况、就医门诊和住院报销的比例和金额，问救助是否到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1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建卡贫户参加医疗保险情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2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建卡贫困户慢病患者特病卡办理情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3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建卡贫困户医疗救助的重大政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4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建卡贫困户家庭医生签约服务情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5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建卡贫困户门诊和住院自付比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19T04:46:16Z</dcterms:created>
  <dc:creator>Administrator</dc:creator>
  <dc:description/>
  <dc:language>en-US</dc:language>
  <cp:lastModifiedBy>王兴洪</cp:lastModifiedBy>
  <dcterms:modified xsi:type="dcterms:W3CDTF">2019-09-04T03:25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